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B3F-4323-4AD1-9348-D9F27382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534-646D-4108-BEA3-7E07F4F7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01D-ED29-4E7B-A186-A94A3D9B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695-D48D-4334-A9CE-D8CD220B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1205-148C-4956-B5CF-6348C30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5B1A-45D0-435C-AF29-42E4A5B6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625A-5826-4FB6-A9D5-3020D0BA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29AE-F2DA-4978-BBA4-30A2213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F189-9972-4686-9971-7A9042A1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6CC9-4F06-43B8-A00F-ED13325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89EE-DE9C-437C-BA4D-09B07B4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5B4-49DF-4ED8-B1B5-885FB814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C262-3835-4D70-AF4B-C591094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AAE-3DB6-4A4E-B6DC-736A00CB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A23E-BD39-4808-BC65-AC9F9F0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93C-3F4A-4C97-AF31-4799B7D5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1A92-D1B1-4809-97EF-0D432323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6E2-69E6-4F18-A12E-C333EBE9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078-84AC-4F37-8A0E-13EE8FD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4F8-58AF-4249-BEE3-B69D2C70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A4A-1616-41BB-A95F-9EC10553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8C7-DE16-45FD-B3F0-17467646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722-0450-4D88-8970-BD68BEE6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644-6FBD-4768-B89D-B555E249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FE26-B384-4BAA-BAEB-0B120C8B7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3825-F270-427D-9D59-DB70EE2FC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drid.org/" TargetMode="External"/><Relationship Id="rId2" Type="http://schemas.openxmlformats.org/officeDocument/2006/relationships/hyperlink" Target="http://www.munimadrid.es/" TargetMode="External"/><Relationship Id="rId3" Type="http://schemas.openxmlformats.org/officeDocument/2006/relationships/hyperlink" Target="http://www.map.es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MPLEO PUBL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FUNCIONA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ONAL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438280"/>
            <a:ext cx="7619760" cy="3820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FERTA PÚBLICA DE EMPLEO: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EÍN DEL ESTADO O DE LA ADMINISTARCIÓN AUTONÓMICA O LOCAL CORRESPOND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VOCATORIA. INDIC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SISTEMA DE SELECCIÓN: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OPOSI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S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OS OPOSIC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SA DE TRABAJ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REQUISITOS,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SOLICITUD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ALENDAR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PRUEB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XÁMENES / PRUE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794120"/>
            <a:ext cx="4267440" cy="1195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A: TITULADO SUPERIOR/ LICENCIAD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B: DIPLOMAD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C: BACHILLERATO O CFG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D: ESO O CFG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E: CERTIFICADO DE ESTUDIOS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5334120"/>
            <a:ext cx="8380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1600"/>
            <a:ext cx="71629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CIÓN SOBRE EMPLEO PÚBLIC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4880" y="2257560"/>
            <a:ext cx="7551720" cy="359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ENTROS OFICIALES: TABLONES DE AYUNTAMIENTOS, JUNTAS MUNICIPALES DE DISTRITO, MINISTERIO DE ADMINISTRATIC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OLETINES OFICIA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ESTA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AUT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IBLIOTE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ET: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madrid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BOCM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munimadrid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OPOSICIONES Y OFERTAS DE EMPLEO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www.map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PROCESOS SELECTIV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ENSA: Mercado de Trabajo, AB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ADEM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PLEO PRIVA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FERTA DE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SPUESTA A LA OFERTA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ta + Curr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CESO DE SEL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ueb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sico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ina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trevista de 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7:56:44Z</dcterms:created>
  <dc:creator>AUTOMOCIÓN</dc:creator>
  <dc:description/>
  <dc:language>en-US</dc:language>
  <cp:lastModifiedBy>AUTOMOCIÓN</cp:lastModifiedBy>
  <dcterms:modified xsi:type="dcterms:W3CDTF">2008-01-23T09:27:41Z</dcterms:modified>
  <cp:revision>2</cp:revision>
  <dc:subject/>
  <dc:title>EMPLEO PÚBLICO</dc:title>
</cp:coreProperties>
</file>